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0086-15EB-4C25-B099-631205F9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29F-9EC3-4DAA-B24D-8628904E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575-425E-409B-86F1-366C79B6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7E2-5F1F-4425-B0EF-F02DC8EF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9D9-7946-4228-B9BD-A151512C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E6F-5098-4EA8-84D0-2ED55C8C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93C-379D-41AB-911D-99ED9B27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8390-3CF8-4C41-9523-B5679ACC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2AC-FDC3-40E9-BE4F-A577FFB5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5B3E-246C-4032-AA92-15A60F92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A361-3FBC-4BA2-881C-673C8B70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28DC-3B91-4669-8C2E-A3370737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1430-63E2-41B8-89FC-0F0342C29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husar@me.wustl.edu" TargetMode="External"/><Relationship Id="rId3" Type="http://schemas.openxmlformats.org/officeDocument/2006/relationships/hyperlink" Target="mailto:emr1@wustl.edu" TargetMode="External"/><Relationship Id="rId4" Type="http://schemas.openxmlformats.org/officeDocument/2006/relationships/hyperlink" Target="mailto:stefan@wustl.edu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reillynet.com/pub/a/oreilly/tim/news/2005/09/30/what-is-web-20.html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7404" r="0" b="0"/>
          <a:stretch/>
        </p:blipFill>
        <p:spPr>
          <a:xfrm>
            <a:off x="1143000" y="2971800"/>
            <a:ext cx="2895480" cy="1905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IP Air Quality Custer Initiative</a:t>
            </a:r>
            <a:br>
              <a:rPr sz="2400"/>
            </a:b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space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ng Data Producers, Analysts Decision Mak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5627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095880"/>
            <a:ext cx="7772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ter ESIP Meeting, January 8, 2008, Washington 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rhusar@me.wustl.ed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emr1@wustl.ed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stefan@wustl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572000" y="2971800"/>
            <a:ext cx="3048120" cy="1981080"/>
            <a:chOff x="4572000" y="2971800"/>
            <a:chExt cx="3048120" cy="1981080"/>
          </a:xfrm>
        </p:grpSpPr>
        <p:sp>
          <p:nvSpPr>
            <p:cNvPr id="47" name=""/>
            <p:cNvSpPr/>
            <p:nvPr/>
          </p:nvSpPr>
          <p:spPr>
            <a:xfrm>
              <a:off x="4572000" y="2971800"/>
              <a:ext cx="3048120" cy="1981080"/>
            </a:xfrm>
            <a:prstGeom prst="rect">
              <a:avLst/>
            </a:prstGeom>
            <a:solidFill>
              <a:srgbClr val="dede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4724280" y="3038400"/>
              <a:ext cx="2809800" cy="337320"/>
              <a:chOff x="4724280" y="3038400"/>
              <a:chExt cx="2809800" cy="337320"/>
            </a:xfrm>
          </p:grpSpPr>
          <p:sp>
            <p:nvSpPr>
              <p:cNvPr id="49" name=""/>
              <p:cNvSpPr/>
              <p:nvPr/>
            </p:nvSpPr>
            <p:spPr>
              <a:xfrm>
                <a:off x="4724280" y="3038400"/>
                <a:ext cx="2809800" cy="304920"/>
              </a:xfrm>
              <a:prstGeom prst="rect">
                <a:avLst/>
              </a:prstGeom>
              <a:solidFill>
                <a:srgbClr val="ffffe5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724280" y="3038400"/>
                <a:ext cx="2809800" cy="337320"/>
              </a:xfrm>
              <a:prstGeom prst="rect">
                <a:avLst/>
              </a:pr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ministrativ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48520" y="3471840"/>
              <a:ext cx="1238040" cy="965160"/>
              <a:chOff x="6248520" y="3471840"/>
              <a:chExt cx="1238040" cy="965160"/>
            </a:xfrm>
          </p:grpSpPr>
          <p:sp>
            <p:nvSpPr>
              <p:cNvPr id="52" name=""/>
              <p:cNvSpPr/>
              <p:nvPr/>
            </p:nvSpPr>
            <p:spPr>
              <a:xfrm>
                <a:off x="6248520" y="3471840"/>
                <a:ext cx="1238040" cy="965160"/>
              </a:xfrm>
              <a:prstGeom prst="rect">
                <a:avLst/>
              </a:prstGeom>
              <a:solidFill>
                <a:srgbClr val="ffffe5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248520" y="3471840"/>
                <a:ext cx="1238040" cy="580680"/>
              </a:xfrm>
              <a:prstGeom prst="rect">
                <a:avLst/>
              </a:pr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ols, Method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724280" y="3471840"/>
              <a:ext cx="1333800" cy="965160"/>
              <a:chOff x="4724280" y="3471840"/>
              <a:chExt cx="1333800" cy="965160"/>
            </a:xfrm>
          </p:grpSpPr>
          <p:sp>
            <p:nvSpPr>
              <p:cNvPr id="55" name=""/>
              <p:cNvSpPr/>
              <p:nvPr/>
            </p:nvSpPr>
            <p:spPr>
              <a:xfrm>
                <a:off x="4724280" y="3471840"/>
                <a:ext cx="1333800" cy="965160"/>
              </a:xfrm>
              <a:prstGeom prst="rect">
                <a:avLst/>
              </a:prstGeom>
              <a:solidFill>
                <a:srgbClr val="ffffe5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724280" y="3471840"/>
                <a:ext cx="1333800" cy="337320"/>
              </a:xfrm>
              <a:prstGeom prst="rect">
                <a:avLst/>
              </a:pr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sour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4724280" y="4495680"/>
              <a:ext cx="2809800" cy="337320"/>
              <a:chOff x="4724280" y="4495680"/>
              <a:chExt cx="2809800" cy="337320"/>
            </a:xfrm>
          </p:grpSpPr>
          <p:sp>
            <p:nvSpPr>
              <p:cNvPr id="58" name=""/>
              <p:cNvSpPr/>
              <p:nvPr/>
            </p:nvSpPr>
            <p:spPr>
              <a:xfrm>
                <a:off x="4724280" y="4495680"/>
                <a:ext cx="2809800" cy="252720"/>
              </a:xfrm>
              <a:prstGeom prst="rect">
                <a:avLst/>
              </a:prstGeom>
              <a:solidFill>
                <a:srgbClr val="ffffe5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724280" y="4495680"/>
                <a:ext cx="2809800" cy="337320"/>
              </a:xfrm>
              <a:prstGeom prst="rect">
                <a:avLst/>
              </a:pr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utcom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"/>
          <p:cNvSpPr/>
          <p:nvPr/>
        </p:nvSpPr>
        <p:spPr>
          <a:xfrm>
            <a:off x="3809880" y="35812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6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6668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operability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26668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ki Work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OA allows accessing distributes AQ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11249" t="0" r="11249" b="0"/>
          <a:stretch/>
        </p:blipFill>
        <p:spPr>
          <a:xfrm>
            <a:off x="152280" y="1905120"/>
            <a:ext cx="4800600" cy="4286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0" b="15350"/>
          <a:stretch/>
        </p:blipFill>
        <p:spPr>
          <a:xfrm>
            <a:off x="5105520" y="1371600"/>
            <a:ext cx="4038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formation Interoperability St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8884" r="0" b="0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66680" y="2590920"/>
            <a:ext cx="7543800" cy="129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2767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b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rtual Worksp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819520" y="2057400"/>
            <a:ext cx="3962160" cy="2438280"/>
            <a:chOff x="2819520" y="2057400"/>
            <a:chExt cx="3962160" cy="2438280"/>
          </a:xfrm>
        </p:grpSpPr>
        <p:sp>
          <p:nvSpPr>
            <p:cNvPr id="73" name=""/>
            <p:cNvSpPr/>
            <p:nvPr/>
          </p:nvSpPr>
          <p:spPr>
            <a:xfrm>
              <a:off x="2819520" y="2057400"/>
              <a:ext cx="3962160" cy="2438280"/>
            </a:xfrm>
            <a:prstGeom prst="rect">
              <a:avLst/>
            </a:prstGeom>
            <a:solidFill>
              <a:srgbClr val="dede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2971800" y="2133720"/>
              <a:ext cx="3652560" cy="376200"/>
              <a:chOff x="2971800" y="2133720"/>
              <a:chExt cx="3652560" cy="376200"/>
            </a:xfrm>
          </p:grpSpPr>
          <p:sp>
            <p:nvSpPr>
              <p:cNvPr id="75" name=""/>
              <p:cNvSpPr/>
              <p:nvPr/>
            </p:nvSpPr>
            <p:spPr>
              <a:xfrm>
                <a:off x="2971800" y="2133720"/>
                <a:ext cx="3652560" cy="376200"/>
              </a:xfrm>
              <a:prstGeom prst="rect">
                <a:avLst/>
              </a:prstGeom>
              <a:solidFill>
                <a:srgbClr val="ffffe5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971800" y="2133720"/>
                <a:ext cx="3652560" cy="337320"/>
              </a:xfrm>
              <a:prstGeom prst="rect">
                <a:avLst/>
              </a:pr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ministrativ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952880" y="2666880"/>
              <a:ext cx="1609920" cy="1187280"/>
              <a:chOff x="4952880" y="2666880"/>
              <a:chExt cx="1609920" cy="1187280"/>
            </a:xfrm>
          </p:grpSpPr>
          <p:sp>
            <p:nvSpPr>
              <p:cNvPr id="78" name=""/>
              <p:cNvSpPr/>
              <p:nvPr/>
            </p:nvSpPr>
            <p:spPr>
              <a:xfrm>
                <a:off x="4952880" y="2666880"/>
                <a:ext cx="1609920" cy="1187280"/>
              </a:xfrm>
              <a:prstGeom prst="rect">
                <a:avLst/>
              </a:prstGeom>
              <a:solidFill>
                <a:srgbClr val="ffffe5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952880" y="2666880"/>
                <a:ext cx="1609920" cy="337320"/>
              </a:xfrm>
              <a:prstGeom prst="rect">
                <a:avLst/>
              </a:pr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ols, Method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2971800" y="2666880"/>
              <a:ext cx="1733400" cy="1187280"/>
              <a:chOff x="2971800" y="2666880"/>
              <a:chExt cx="1733400" cy="1187280"/>
            </a:xfrm>
          </p:grpSpPr>
          <p:sp>
            <p:nvSpPr>
              <p:cNvPr id="81" name=""/>
              <p:cNvSpPr/>
              <p:nvPr/>
            </p:nvSpPr>
            <p:spPr>
              <a:xfrm>
                <a:off x="2971800" y="2666880"/>
                <a:ext cx="1733400" cy="1187280"/>
              </a:xfrm>
              <a:prstGeom prst="rect">
                <a:avLst/>
              </a:prstGeom>
              <a:solidFill>
                <a:srgbClr val="ffffe5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971800" y="2666880"/>
                <a:ext cx="1733400" cy="337320"/>
              </a:xfrm>
              <a:prstGeom prst="rect">
                <a:avLst/>
              </a:pr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sour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971800" y="4114800"/>
              <a:ext cx="3652560" cy="337320"/>
              <a:chOff x="2971800" y="4114800"/>
              <a:chExt cx="3652560" cy="337320"/>
            </a:xfrm>
          </p:grpSpPr>
          <p:sp>
            <p:nvSpPr>
              <p:cNvPr id="84" name=""/>
              <p:cNvSpPr/>
              <p:nvPr/>
            </p:nvSpPr>
            <p:spPr>
              <a:xfrm>
                <a:off x="2971800" y="4114800"/>
                <a:ext cx="3652560" cy="311400"/>
              </a:xfrm>
              <a:prstGeom prst="rect">
                <a:avLst/>
              </a:prstGeom>
              <a:solidFill>
                <a:srgbClr val="ffffe5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971800" y="4114800"/>
                <a:ext cx="3652560" cy="337320"/>
              </a:xfrm>
              <a:prstGeom prst="rect">
                <a:avLst/>
              </a:pr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utcom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5410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-Centric Workspace: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DataSpaces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4495680" cy="3124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4120" y="4724280"/>
            <a:ext cx="3633840" cy="1955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34120" y="2438280"/>
            <a:ext cx="3809880" cy="1905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 flipV="1">
            <a:off x="3962520" y="2819520"/>
            <a:ext cx="1981080" cy="457200"/>
          </a:xfrm>
          <a:prstGeom prst="line">
            <a:avLst/>
          </a:prstGeom>
          <a:ln w="7632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2971800"/>
            <a:ext cx="0" cy="1295280"/>
          </a:xfrm>
          <a:prstGeom prst="line">
            <a:avLst/>
          </a:prstGeom>
          <a:ln w="7632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35812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alog - Fin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3526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scribe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53341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scuss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6386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arth Science Information Partners (E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609480"/>
            <a:ext cx="3809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mantic Wiki: Structured (RDF and Unstructured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n, Standard Matadata - R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dy for Export/Harvesting  by Registries, Cata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5715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-Task-Centric Workspace Example: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EventSpaces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5333760" cy="4114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943600" y="228600"/>
            <a:ext cx="2949480" cy="35812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41694"/>
          <a:stretch/>
        </p:blipFill>
        <p:spPr>
          <a:xfrm>
            <a:off x="5943600" y="4027320"/>
            <a:ext cx="2909880" cy="21448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380880" y="42670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alog - Fin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27432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ecific Exceptional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6172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rvest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Workspa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eb is being transformed: It is becoming more particip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the explosive growth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k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cture-sha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lo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ebo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architectural, technological and cultural change is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Web 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2.O is good for Earth Science community since it a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ter harvesting of current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many cultural, legal and other berries rem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paces may connect info providers, analysts, decision m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5242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17:32:38Z</dcterms:created>
  <dc:creator>s</dc:creator>
  <dc:description/>
  <dc:language>en-US</dc:language>
  <cp:lastModifiedBy>Administrator</cp:lastModifiedBy>
  <dcterms:modified xsi:type="dcterms:W3CDTF">2008-01-15T20:22:49Z</dcterms:modified>
  <cp:revision>123</cp:revision>
  <dc:subject/>
  <dc:title>Slide 1</dc:title>
</cp:coreProperties>
</file>